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D63F-36F0-4670-B470-1237C0C7B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ade school ma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 questions to ask the student team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es a CD player turned off in your backpack decrease bicycle safety? What is the real problem with listening to music while bicycling? (distra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es just the presence of a stop light or crosswalk increase bicycle safety? (“using crosswalks safely”; “obeying stop lights” would be more accurate descrip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the problem with animals? (dogs on a leash provide a limited distraction, but dogs chasing you is a huge distra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E804-32DC-430F-A260-57604198C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338C-6613-49E2-B94F-E73E07184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61E3-2D6E-4D0F-9B1D-7EDEF2530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A1BD-0345-49BE-A981-905AB4FE1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C583-2EB5-4BF4-9C65-870095E48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0322-A68A-4ACE-AFDB-63AC7CFE0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4FF0-ECA3-42EE-9C1A-4E3728CCD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1C7B-5DEC-4C1F-B08B-6306D905C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6F7E-17E0-46BE-B76D-DE7C93059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9F40-07E3-4E45-A3D3-CA756427F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EDA1-DFF8-441B-9D6D-580D19D17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0B21-0283-4E0D-9560-D444B09D5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06B-482C-4BF0-9D6D-C931E3B94CE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Causal Maps and Practicing Effective Question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37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Reflecting on Your Causal Map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8.0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In pairs, reflect on your causal m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587520" indent="-24444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Project Reflection Checklist to guide your discu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587520" indent="-24444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e any needed revis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371E-E8EB-42B9-BB5C-4ABB6F1C3C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Editing Your Projec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0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 the Teacher Workspace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t:</a:t>
            </a:r>
            <a:br>
              <a:rPr sz="1600"/>
            </a:b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ign I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dit your projec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ubmi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D4A0-FE93-48C8-A376-588BE8CC5A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Reviewing Student Work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8.08–8.0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 the Teacher Workspace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t:</a:t>
            </a:r>
            <a:br>
              <a:rPr sz="1600"/>
            </a:b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a student team’s map and add a com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progression of student thinking by selecting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View or Print Team’s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ll maps for the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ps in portfol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7374-8CD8-48E1-9ADF-C1FE68F232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752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Revising Your Causal Map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any new ideas from your colleagues to revise your practice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Internet to research your evidence to eliminate, validate, or add to your initial causal map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9F10-A0B6-431C-A4FB-012348C82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derstanding Best Classroom Practices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br>
              <a:rPr sz="1400"/>
            </a:b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.11– 8.1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arn the tool by using 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tool in groups—pairs is idea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Keep in mind that not all work and discussion occurs at the comp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uide students in distilling essential information in their m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ognize when maps are 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multiple methods of assessment throughout th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FDFC-6860-4AFD-93A2-1B436AA039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Revising Your Unit Pla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1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Seeing Reason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ction and foundation sections,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f needed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the Student Assessment Plan section, add your ideas for how you would assess the learning throughout the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Assessment Timeline, as need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Procedur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Unit Summ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py an image of the map into the Practice Map se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A90E-7D16-4D19-BBB0-7B352704E1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Results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15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your experience with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you try out an idea for your main unit or for a different project id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ing your test results, do you think you will keep this tool in your Unit Plan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itting in with the objectives and standards/syllabus outcomes you are trying to target—and your overall plan for your unit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will the use of this tool help students meet those need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nhancing your students’ higher-order thinking skills as well as collaboration and communication in your classroom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AFD1-D250-44E4-BB1F-3203AADA1E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nalising Your Seeing Reason Projec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.16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685880"/>
            <a:ext cx="82375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If you anticipate that a </a:t>
            </a: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 will be imple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for your unit because it is a good fit for the unit’s objectives, comple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any unfinished elements of your </a:t>
            </a: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Include appropriate references, comments and analysis in you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practice map that you would expect your students to include in thei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 projects.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860a8"/>
                </a:solidFill>
                <a:latin typeface="Verdana"/>
              </a:rPr>
              <a:t>Make any necessary edits to the project itself, and save your change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FF3D-64E0-4886-B19B-752AD0E8AD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8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18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609560"/>
          <a:ext cx="8237520" cy="402300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8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65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use of the </a:t>
                      </a:r>
                      <a:r>
                        <a:rPr b="1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Tool</a:t>
                      </a: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supports mathematical reasoning and understanding across the curriculum through the use o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g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itical think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ecise langu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epresentation of direct and inverse relationshi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1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Tool</a:t>
                      </a: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supports investigation that occurs in cycles o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vidence gathe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ap buil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4E0D-B96E-4C98-AF56-3DD62F5DF9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ing the Showing Evidence Tool to Target Thinking Skill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derstand how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upports the argumentation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rate evid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best uses for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roj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15A8-6E0C-4477-94BC-4F6239FDD3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5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838080"/>
          <a:ext cx="8237520" cy="5008680"/>
        </p:xfrm>
        <a:graphic>
          <a:graphicData uri="http://schemas.openxmlformats.org/drawingml/2006/table">
            <a:tbl>
              <a:tblPr/>
              <a:tblGrid>
                <a:gridCol w="1676520"/>
                <a:gridCol w="6561000"/>
              </a:tblGrid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ss a unit that integrates the use of the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T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ew and discuss ideas for incorporating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o your un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velop and share a project idea that uses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t up a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ject on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0DD0-1B2F-4E37-B802-58D49ADACD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4670-7633-47E3-8789-EA70B3789A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8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35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onsidering the Seeing Reason Tool for Your Uni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35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828800"/>
            <a:ext cx="76960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Aft>
                <a:spcPts val="1349"/>
              </a:spcAft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 practi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ausal ma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5080" indent="-235080">
              <a:spcAft>
                <a:spcPts val="1349"/>
              </a:spcAft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and practice effective questioning techniq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5080" indent="-235080">
              <a:spcAft>
                <a:spcPts val="1349"/>
              </a:spcAft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and receive feedback on project ide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0CA4-5C84-4FA7-949B-4927388C47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066680"/>
          <a:ext cx="8237520" cy="2590920"/>
        </p:xfrm>
        <a:graphic>
          <a:graphicData uri="http://schemas.openxmlformats.org/drawingml/2006/table">
            <a:tbl>
              <a:tblPr/>
              <a:tblGrid>
                <a:gridCol w="1828800"/>
                <a:gridCol w="64087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C6BC-0BA8-43B0-99CF-6717F301C7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8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 the Seeing Reason Tool for Your Unit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760" y="1676520"/>
            <a:ext cx="47624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 practic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ausal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and practice effective questioning techniq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and receive feedback on projec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experience using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4005360" cy="40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0CA6-9107-4387-ACAC-1D50D8311D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Out Your Seeing Reason Idea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0480"/>
            <a:ext cx="823752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Logging In as a Studen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0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udent Log-I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e your teacher ID, team ID, and passwo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ign I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your project’s tit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9D34-FB30-4E6C-B5AA-194F3BF9AC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6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Out Your Seeing Reason Idea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09360"/>
            <a:ext cx="8237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Using the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.02–8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factors to your causal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relationships between fact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nter comments directed to the teacher or one’s team memb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in your portfol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Saving a Map Image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8.0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how to save and copy a map ima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 your map is complete, you will be copying the image into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DD0F-035E-4D85-AE62-9FCC6852D1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Causal Maps and Practicing Effective Question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5259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Taking a Deeper Look at Maps –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 Module 8.04–8.0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rt of the teacher’s task involves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ycles of listening, questioning, and refocusing student work—leading students to evaluate their own thinking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76720" y="2476440"/>
            <a:ext cx="5638680" cy="331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4F49-B771-4908-96CA-5B2E4C7FE7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Considering the Seeing Reason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Causal Maps and Practicing Effective Question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sing Effective Questioning Techniques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.05–8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pairs, discuss your practice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ole play student and teach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actice the cycle of listening, questioning, and refocusing your “student’s” work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rite new ideas for your practice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te any questioning techniques you learn during this activ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83DB-CE92-449D-B349-C8E5331211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7:33Z</dcterms:modified>
  <cp:revision>160</cp:revision>
  <dc:subject/>
  <dc:title>Presentation Title Goes Here</dc:title>
</cp:coreProperties>
</file>